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863D-A87F-4149-BA6B-145A6F02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85154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92240" y="4511520"/>
            <a:ext cx="85154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A79D-0D71-4388-B87B-6A7043B1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224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580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5F08-B0F2-40BF-AF64-CB2F2B26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1520" y="226188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0800" y="226188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92240" y="451152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1520" y="451152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50800" y="451152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C36F-53D5-45AB-AA19-64B99397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92240" y="2261880"/>
            <a:ext cx="85154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85154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92240" y="861480"/>
            <a:ext cx="8515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224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92240" y="2261880"/>
            <a:ext cx="85154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154D-0234-466E-9C23-68EBD687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5580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92240" y="4511520"/>
            <a:ext cx="85154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85154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92240" y="4511520"/>
            <a:ext cx="85154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224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5580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71520" y="226188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0800" y="226188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92240" y="451152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71520" y="451152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850800" y="451152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92240" y="2261880"/>
            <a:ext cx="85154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85154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85154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599-6690-46C4-ACB4-2F65A7BA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92240" y="861480"/>
            <a:ext cx="8515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9224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5580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92240" y="4511520"/>
            <a:ext cx="85154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85154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92240" y="4511520"/>
            <a:ext cx="85154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9224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45580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71520" y="226188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0800" y="226188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92240" y="451152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971520" y="451152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850800" y="451152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24D5-4DC3-4C44-A967-04299F43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567-3370-4E9C-A363-A97FEF78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92240" y="861480"/>
            <a:ext cx="8515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C09-AD6E-4A25-90F1-EEF01CF3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9224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58C-52D9-4340-B299-A21D4AAD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580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304-408B-41FE-B70A-CF585363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92240" y="4511520"/>
            <a:ext cx="85154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3BDB-7FD8-481C-944E-14B5F6F1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8600" y="1960560"/>
            <a:ext cx="89722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8600" y="6590880"/>
            <a:ext cx="232092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69920" y="6590880"/>
            <a:ext cx="315900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08520" y="6590880"/>
            <a:ext cx="232092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5102C-FA0A-49EA-9658-A72A722AD4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2240" y="61560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2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91880" y="2134800"/>
            <a:ext cx="86770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76400" y="6762600"/>
            <a:ext cx="9254880" cy="87480"/>
          </a:xfrm>
          <a:prstGeom prst="roundRect">
            <a:avLst>
              <a:gd name="adj" fmla="val 1852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25600" y="6954840"/>
            <a:ext cx="8005680" cy="87480"/>
          </a:xfrm>
          <a:prstGeom prst="roundRect">
            <a:avLst>
              <a:gd name="adj" fmla="val 1852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0320" y="2073240"/>
            <a:ext cx="9570960" cy="512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92240" y="2261880"/>
            <a:ext cx="85154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360360"/>
            <a:ext cx="179280" cy="83196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831960"/>
              <a:gd name="textAreaBottom" fmla="*/ 831600 h 831960"/>
            </a:gdLst>
            <a:ahLst/>
            <a:rect l="textAreaLeft" t="textAreaTop" r="textAreaRight" b="textAreaBottom"/>
            <a:pathLst>
              <a:path w="21600" h="100079">
                <a:moveTo>
                  <a:pt x="192" y="0"/>
                </a:moveTo>
                <a:arcTo wR="192" hR="192" stAng="16200000" swAng="-5400000"/>
                <a:lnTo>
                  <a:pt x="0" y="99887"/>
                </a:lnTo>
                <a:arcTo wR="192" hR="192" stAng="10800000" swAng="-5400000"/>
                <a:lnTo>
                  <a:pt x="21408" y="100079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0360" y="2514600"/>
            <a:ext cx="179280" cy="83196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831960"/>
              <a:gd name="textAreaBottom" fmla="*/ 831600 h 831960"/>
            </a:gdLst>
            <a:ahLst/>
            <a:rect l="textAreaLeft" t="textAreaTop" r="textAreaRight" b="textAreaBottom"/>
            <a:pathLst>
              <a:path w="21600" h="100079">
                <a:moveTo>
                  <a:pt x="192" y="0"/>
                </a:moveTo>
                <a:arcTo wR="192" hR="192" stAng="16200000" swAng="-5400000"/>
                <a:lnTo>
                  <a:pt x="0" y="99887"/>
                </a:lnTo>
                <a:arcTo wR="192" hR="192" stAng="10800000" swAng="-5400000"/>
                <a:lnTo>
                  <a:pt x="21408" y="100079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0360" y="1417680"/>
            <a:ext cx="179280" cy="83196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831960"/>
              <a:gd name="textAreaBottom" fmla="*/ 831600 h 831960"/>
            </a:gdLst>
            <a:ahLst/>
            <a:rect l="textAreaLeft" t="textAreaTop" r="textAreaRight" b="textAreaBottom"/>
            <a:pathLst>
              <a:path w="21600" h="100079">
                <a:moveTo>
                  <a:pt x="192" y="0"/>
                </a:moveTo>
                <a:arcTo wR="192" hR="192" stAng="16200000" swAng="-5400000"/>
                <a:lnTo>
                  <a:pt x="0" y="99887"/>
                </a:lnTo>
                <a:arcTo wR="192" hR="192" stAng="10800000" swAng="-5400000"/>
                <a:lnTo>
                  <a:pt x="21408" y="100079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2360" y="3609720"/>
            <a:ext cx="8352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333333"/>
                </a:solidFill>
                <a:latin typeface="Arial"/>
              </a:rPr>
              <a:t>Water supply</a:t>
            </a:r>
            <a:endParaRPr b="1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52720" y="720720"/>
            <a:ext cx="5086440" cy="861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464000" y="6853320"/>
            <a:ext cx="3384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Curriculum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92000" y="752400"/>
            <a:ext cx="953928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Not all of the world's water is clea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2240" y="2262240"/>
            <a:ext cx="85168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587"/>
              </a:spcBef>
              <a:spcAft>
                <a:spcPts val="587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some poor countries water is still not clea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587"/>
              </a:spcBef>
              <a:spcAft>
                <a:spcPts val="587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ater-borne diseases are still common in such 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752560" y="3456000"/>
            <a:ext cx="5254920" cy="35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Arial"/>
              </a:rPr>
              <a:t>What we have learned...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0240" y="2204640"/>
            <a:ext cx="906012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ater is vital for life of all living th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 use large amounts of w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water we use in homes has to be cleaned to remove microb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ithout cleaning water you may get many dis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ater can come from rivers, but also from under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derground water is called an artesian supp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is still much to do to clean water in poor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Arial"/>
              </a:rPr>
              <a:t>What next?...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0240" y="2204640"/>
            <a:ext cx="906012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o back to our Water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port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the 'Water'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ok at the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self-learning water i-topi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with its read-o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atch the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vide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ke a wall display using our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print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0" y="72972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Arial"/>
              </a:rPr>
              <a:t>River, stream, creek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079640" y="2098800"/>
            <a:ext cx="85168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dobe Fan Heiti Std"/>
              </a:rPr>
              <a:t>RIVER</a:t>
            </a:r>
            <a:r>
              <a:rPr b="0" lang="en-GB" sz="3000" spc="-1" strike="noStrike">
                <a:solidFill>
                  <a:srgbClr val="000000"/>
                </a:solidFill>
                <a:latin typeface="Adobe Fan Heiti Std"/>
              </a:rPr>
              <a:t> is a large channel of flowing water, far too big to jump over or wade acros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dobe Fan Heiti Std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Adobe Fan Heiti Std"/>
              </a:rPr>
              <a:t>STREAM, CREEK</a:t>
            </a:r>
            <a:r>
              <a:rPr b="0" lang="en-GB" sz="3000" spc="-1" strike="noStrike">
                <a:solidFill>
                  <a:srgbClr val="000000"/>
                </a:solidFill>
                <a:latin typeface="Adobe Fan Heiti Std"/>
              </a:rPr>
              <a:t>  is a small tributary or branch of a river. You can jump over it or wade acros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Living things need water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36720" y="2231640"/>
            <a:ext cx="799128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living things need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nd animals need salt-free (fresh)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need water more often than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78680" y="2087640"/>
            <a:ext cx="4476600" cy="5254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74800" y="4240080"/>
            <a:ext cx="525456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6720" y="581040"/>
            <a:ext cx="899928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Arial"/>
              </a:rPr>
              <a:t>Everyday water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44514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take water for gr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used all around our ho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00840" y="2211480"/>
            <a:ext cx="4151160" cy="3405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519280" y="4681440"/>
            <a:ext cx="522288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0720" y="609480"/>
            <a:ext cx="93600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Arial"/>
              </a:rPr>
              <a:t>Water is piped to homes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63280" y="2261880"/>
            <a:ext cx="4824360" cy="45781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rinking water comes from reservoirs and rivers through large pi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maller pipes are used to connect h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all CLEAN water that has been purifi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551640" y="2392200"/>
            <a:ext cx="2752560" cy="45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92000" y="647640"/>
            <a:ext cx="93600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Arial"/>
              </a:rPr>
              <a:t>We use lots of water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36360" y="2232000"/>
            <a:ext cx="935964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 fontScale="85000"/>
          </a:bodyPr>
          <a:p>
            <a:pPr marL="366840" indent="-275040">
              <a:lnSpc>
                <a:spcPct val="93000"/>
              </a:lnSpc>
              <a:spcBef>
                <a:spcPts val="876"/>
              </a:spcBef>
              <a:spcAft>
                <a:spcPts val="87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We use water in hom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>
              <a:lnSpc>
                <a:spcPct val="93000"/>
              </a:lnSpc>
              <a:spcBef>
                <a:spcPts val="876"/>
              </a:spcBef>
              <a:spcAft>
                <a:spcPts val="87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actories and power stations use even more wa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>
              <a:lnSpc>
                <a:spcPct val="93000"/>
              </a:lnSpc>
              <a:spcBef>
                <a:spcPts val="876"/>
              </a:spcBef>
              <a:spcAft>
                <a:spcPts val="87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ut the biggest users are farmers, especially in dry parts of the worl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003400" y="3527280"/>
            <a:ext cx="699768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92000" y="647640"/>
            <a:ext cx="93600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Arial"/>
              </a:rPr>
              <a:t>Water is kept in </a:t>
            </a: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RESERVOIRS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7640" y="2735280"/>
            <a:ext cx="5543640" cy="2076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 fontScale="77000"/>
          </a:bodyPr>
          <a:p>
            <a:pPr marL="332280" indent="-24912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t only rains SOME of the ti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280" indent="-24912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We need a reliable supply ALL of the ti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280" indent="-24912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We keep spare water in </a:t>
            </a:r>
            <a:r>
              <a:rPr b="0" lang="en-GB" sz="2100" spc="-1" strike="noStrike">
                <a:solidFill>
                  <a:srgbClr val="ff0000"/>
                </a:solidFill>
                <a:latin typeface="Arial"/>
              </a:rPr>
              <a:t>reservoi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280" indent="-24912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Reservoir water is not cle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280" indent="-24912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t has to be cleaned in </a:t>
            </a:r>
            <a:r>
              <a:rPr b="0" lang="en-GB" sz="2100" spc="-1" strike="noStrike">
                <a:solidFill>
                  <a:srgbClr val="ff0000"/>
                </a:solidFill>
                <a:latin typeface="Arial"/>
              </a:rPr>
              <a:t>treatment wor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26320" y="2139840"/>
            <a:ext cx="3397320" cy="3259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152360" y="5973840"/>
            <a:ext cx="8407440" cy="1082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440000" y="5300640"/>
            <a:ext cx="3958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any complicated processes go on in a treatment works to make the water safe to drin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Arial"/>
              </a:rPr>
              <a:t>Water occurs underground 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44200" y="2098440"/>
            <a:ext cx="837252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876"/>
              </a:spcBef>
              <a:spcAft>
                <a:spcPts val="87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inwater seeps through soils to r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876"/>
              </a:spcBef>
              <a:spcAft>
                <a:spcPts val="87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me rocks hold lots of water; wells and pumps can recover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876"/>
              </a:spcBef>
              <a:spcAft>
                <a:spcPts val="87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ater-bearing rocks are called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AQUIF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876"/>
              </a:spcBef>
              <a:spcAft>
                <a:spcPts val="87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quifer water is called artesian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11640" y="3708360"/>
            <a:ext cx="5219640" cy="3635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072720" y="3816360"/>
            <a:ext cx="107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91640" y="6313320"/>
            <a:ext cx="180000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-bearing rock (aquif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Arial"/>
              </a:rPr>
              <a:t>Dirty water causes </a:t>
            </a: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DISEASE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08000" y="2261880"/>
            <a:ext cx="54198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storic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ople used to let SEWAGE run into ri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drank from wells near ri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wage MICROBES got into the w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were often ill from dis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610320" y="4449600"/>
            <a:ext cx="2102040" cy="2102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008000" y="2519280"/>
            <a:ext cx="3416400" cy="420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2T18:50:37Z</dcterms:created>
  <dc:creator>Brian Knapp</dc:creator>
  <dc:description/>
  <dc:language>en-US</dc:language>
  <cp:lastModifiedBy>Brian Knapp</cp:lastModifiedBy>
  <dcterms:modified xsi:type="dcterms:W3CDTF">2017-04-11T21:20:34Z</dcterms:modified>
  <cp:revision>97</cp:revision>
  <dc:subject/>
  <dc:title/>
</cp:coreProperties>
</file>