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FDC-C0C6-4C83-B21A-96BE3295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324-3D86-44BF-90FC-4C32F3E4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17E-E748-4C32-AF80-D4F66750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152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080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224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152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5080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64F-6AF0-43E0-BD86-AB0ED535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92240" y="861480"/>
            <a:ext cx="8515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772-59B9-4141-B148-8B6726EF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7152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080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9224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7152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85080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331-8B30-4ECD-BE03-A7C83871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92240" y="861480"/>
            <a:ext cx="8515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7152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0800" y="226188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9224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7152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850800" y="4511520"/>
            <a:ext cx="27417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8E4-DCA0-407F-9AEF-B8D3CBB5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7E3-C06E-458B-93AC-63B55AEE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2240" y="861480"/>
            <a:ext cx="8515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F4B-8BAA-49DB-BAE4-26CF21B4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BDB-295E-4A14-9578-ABAA3CB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5800" y="451152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EB2-60CE-4E49-8B02-62EEFE43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224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5800" y="2261880"/>
            <a:ext cx="4155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2240" y="4511520"/>
            <a:ext cx="851544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7D0-65C0-4F65-8974-DF9CB20A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8600" y="1960560"/>
            <a:ext cx="89722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8600" y="6590880"/>
            <a:ext cx="2320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69920" y="6590880"/>
            <a:ext cx="315900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8520" y="6590880"/>
            <a:ext cx="2320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AA4E1-AC03-43B2-BC53-9AD096E84F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2240" y="61560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2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91880" y="2134800"/>
            <a:ext cx="86770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76400" y="6762600"/>
            <a:ext cx="9254880" cy="87480"/>
          </a:xfrm>
          <a:prstGeom prst="roundRect">
            <a:avLst>
              <a:gd name="adj" fmla="val 1852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600" y="6954840"/>
            <a:ext cx="8005680" cy="87480"/>
          </a:xfrm>
          <a:prstGeom prst="roundRect">
            <a:avLst>
              <a:gd name="adj" fmla="val 1852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0320" y="2073240"/>
            <a:ext cx="9570960" cy="512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544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92240" y="2261880"/>
            <a:ext cx="85154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60360"/>
            <a:ext cx="179280" cy="83196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831960"/>
              <a:gd name="textAreaBottom" fmla="*/ 831600 h 831960"/>
            </a:gdLst>
            <a:ahLst/>
            <a:rect l="textAreaLeft" t="textAreaTop" r="textAreaRight" b="textAreaBottom"/>
            <a:pathLst>
              <a:path w="21600" h="100079">
                <a:moveTo>
                  <a:pt x="192" y="0"/>
                </a:moveTo>
                <a:arcTo wR="192" hR="192" stAng="16200000" swAng="-5400000"/>
                <a:lnTo>
                  <a:pt x="0" y="99887"/>
                </a:lnTo>
                <a:arcTo wR="192" hR="192" stAng="10800000" swAng="-5400000"/>
                <a:lnTo>
                  <a:pt x="21408" y="100079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2514600"/>
            <a:ext cx="179280" cy="83196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831960"/>
              <a:gd name="textAreaBottom" fmla="*/ 831600 h 831960"/>
            </a:gdLst>
            <a:ahLst/>
            <a:rect l="textAreaLeft" t="textAreaTop" r="textAreaRight" b="textAreaBottom"/>
            <a:pathLst>
              <a:path w="21600" h="100079">
                <a:moveTo>
                  <a:pt x="192" y="0"/>
                </a:moveTo>
                <a:arcTo wR="192" hR="192" stAng="16200000" swAng="-5400000"/>
                <a:lnTo>
                  <a:pt x="0" y="99887"/>
                </a:lnTo>
                <a:arcTo wR="192" hR="192" stAng="10800000" swAng="-5400000"/>
                <a:lnTo>
                  <a:pt x="21408" y="100079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0360" y="1417680"/>
            <a:ext cx="179280" cy="83196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831960"/>
              <a:gd name="textAreaBottom" fmla="*/ 831600 h 831960"/>
            </a:gdLst>
            <a:ahLst/>
            <a:rect l="textAreaLeft" t="textAreaTop" r="textAreaRight" b="textAreaBottom"/>
            <a:pathLst>
              <a:path w="21600" h="100079">
                <a:moveTo>
                  <a:pt x="192" y="0"/>
                </a:moveTo>
                <a:arcTo wR="192" hR="192" stAng="16200000" swAng="-5400000"/>
                <a:lnTo>
                  <a:pt x="0" y="99887"/>
                </a:lnTo>
                <a:arcTo wR="192" hR="192" stAng="10800000" swAng="-5400000"/>
                <a:lnTo>
                  <a:pt x="21408" y="100079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3609720"/>
            <a:ext cx="835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333333"/>
                </a:solidFill>
                <a:latin typeface="Arial"/>
              </a:rPr>
              <a:t>Tropical rainforest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52720" y="720720"/>
            <a:ext cx="5086440" cy="86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64000" y="6853320"/>
            <a:ext cx="3384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Curriculum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87640" y="3070080"/>
            <a:ext cx="6912000" cy="4346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2240" y="752400"/>
            <a:ext cx="851688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Most birds live in the canopy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08000" y="2262240"/>
            <a:ext cx="85168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st flowers are in the can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irds that rely on flowers are in the canopy, to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67280" y="3240000"/>
            <a:ext cx="1944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ummingbi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7640" y="576000"/>
            <a:ext cx="95760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Many animals are 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CAMOUFLAGED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08000" y="2243160"/>
            <a:ext cx="902016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ny animals are the colour of  le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camouflage helps to protect them from hunt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36720" y="4319640"/>
            <a:ext cx="9363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een rainforest parr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76360" y="2995560"/>
            <a:ext cx="630576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Hunters are also camouflage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52360" y="2303640"/>
            <a:ext cx="83520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unters are camouflaged, t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ny are ambush h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t each animal only eats some foods – which is why these frogs (hunters)  are safe from the larger chameleon (hu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39840" y="3743280"/>
            <a:ext cx="840744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2240" y="502920"/>
            <a:ext cx="8516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Hunters are adapte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92000" y="2261880"/>
            <a:ext cx="953928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ect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od for chamele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s adaptation is a long sticky tongue that is flicked out of its 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76360" y="3187800"/>
            <a:ext cx="597564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What we have learned...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8000" y="2664000"/>
            <a:ext cx="892800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inforests have 'layers' of 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inforests are hot, humid, and it rains heavily most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ees are tall with branches only at the can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plants can live on rainwater al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st animals live in the can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ny rainforest animals are camoufla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animal eats only some kinds of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most all animals (frogs, monkeys, big cats etc) are good cli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2240" y="8614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What next?...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60240" y="3311280"/>
            <a:ext cx="69706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 back to our Rainforest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port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the Rainforest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books (there are sever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ok at th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elf-learning i-topi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ith its read-o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tch the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vid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ke a wall display using our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printabl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0" y="72972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Rainforest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20720" y="2098800"/>
            <a:ext cx="93600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dobe Fan Heiti Std"/>
              </a:rPr>
              <a:t>A </a:t>
            </a:r>
            <a:r>
              <a:rPr b="1" lang="en-GB" sz="2600" spc="-1" strike="noStrike">
                <a:solidFill>
                  <a:srgbClr val="ff0000"/>
                </a:solidFill>
                <a:latin typeface="Adobe Fan Heiti Std"/>
              </a:rPr>
              <a:t>RAINFOREST</a:t>
            </a:r>
            <a:r>
              <a:rPr b="0" lang="en-GB" sz="2600" spc="-1" strike="noStrike">
                <a:solidFill>
                  <a:srgbClr val="000000"/>
                </a:solidFill>
                <a:latin typeface="Adobe Fan Heiti Std"/>
              </a:rPr>
              <a:t>  grows where it rains every mon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dobe Fan Heiti St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dobe Fan Heiti Std"/>
              </a:rPr>
              <a:t>A</a:t>
            </a:r>
            <a:r>
              <a:rPr b="1" lang="en-GB" sz="2600" spc="-1" strike="noStrike">
                <a:solidFill>
                  <a:srgbClr val="ff0000"/>
                </a:solidFill>
                <a:latin typeface="Adobe Fan Heiti Std"/>
              </a:rPr>
              <a:t> TROPICAL RAINFOREST</a:t>
            </a:r>
            <a:r>
              <a:rPr b="1" lang="en-GB" sz="2600" spc="-1" strike="noStrike">
                <a:solidFill>
                  <a:srgbClr val="000000"/>
                </a:solidFill>
                <a:latin typeface="Adobe Fan Heiti Std"/>
              </a:rPr>
              <a:t> grows close to the Equator</a:t>
            </a:r>
            <a:r>
              <a:rPr b="0" lang="en-GB" sz="2600" spc="-1" strike="noStrike">
                <a:solidFill>
                  <a:srgbClr val="000000"/>
                </a:solidFill>
                <a:latin typeface="Adobe Fan Heiti Std"/>
              </a:rPr>
              <a:t>  and has high temperatures all yea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dobe Fan Heiti Std"/>
              </a:rPr>
              <a:t>A  </a:t>
            </a:r>
            <a:r>
              <a:rPr b="0" lang="en-GB" sz="2600" spc="-1" strike="noStrike">
                <a:solidFill>
                  <a:srgbClr val="ff0000"/>
                </a:solidFill>
                <a:latin typeface="Adobe Fan Heiti Std"/>
              </a:rPr>
              <a:t>JUNGLE </a:t>
            </a:r>
            <a:r>
              <a:rPr b="0" lang="en-GB" sz="2600" spc="-1" strike="noStrike">
                <a:solidFill>
                  <a:srgbClr val="000000"/>
                </a:solidFill>
                <a:latin typeface="Adobe Fan Heiti Std"/>
              </a:rPr>
              <a:t>is  a </a:t>
            </a:r>
            <a:r>
              <a:rPr b="0" lang="en-GB" sz="2600" spc="-1" strike="noStrike">
                <a:solidFill>
                  <a:srgbClr val="009933"/>
                </a:solidFill>
                <a:latin typeface="Adobe Fan Heiti Std"/>
              </a:rPr>
              <a:t>regrowing area</a:t>
            </a:r>
            <a:r>
              <a:rPr b="0" lang="en-GB" sz="2600" spc="-1" strike="noStrike">
                <a:solidFill>
                  <a:srgbClr val="000000"/>
                </a:solidFill>
                <a:latin typeface="Adobe Fan Heiti Std"/>
              </a:rPr>
              <a:t> that was once cut by peo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2000" y="576000"/>
            <a:ext cx="8517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Where are TROPICAL rainforests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6200" y="2232000"/>
            <a:ext cx="889308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in 5 degrees of the Equ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7000"/>
              </a:lnSpc>
              <a:spcBef>
                <a:spcPts val="286"/>
              </a:spcBef>
              <a:spcAft>
                <a:spcPts val="28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moist winds from oceans blow on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30320" y="3016080"/>
            <a:ext cx="699768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6720" y="581040"/>
            <a:ext cx="899928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It rains every day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8360" y="2160720"/>
            <a:ext cx="961236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opical rainforests get thunderstorm rain nearly every day of the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means the air is always full of moisture (hum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00360" y="3095640"/>
            <a:ext cx="694512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720" y="609480"/>
            <a:ext cx="93600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Rainforests have layers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2000" y="2177640"/>
            <a:ext cx="417672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st trees are the same height, and  their branches mesh together to make a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AN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few trees are much taller, and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EMERG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rom the can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ny small trees live in the shade below the canop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are called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UNDERSTOR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51280" y="431964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24360" y="2232000"/>
            <a:ext cx="7356240" cy="4897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072720" y="3600360"/>
            <a:ext cx="107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80360" y="2303640"/>
            <a:ext cx="1368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23280" y="5616720"/>
            <a:ext cx="1368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35640" y="2054160"/>
            <a:ext cx="5795640" cy="5172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92000" y="647640"/>
            <a:ext cx="93600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Most animals live in the canopy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9280" y="2734920"/>
            <a:ext cx="48243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ost leaves are in the canop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food chain depends on lea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o most animals live in the canop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ew live at ground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2000" y="647640"/>
            <a:ext cx="93600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Rainforest canopy trees are tall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1640" y="3024000"/>
            <a:ext cx="3024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rees have no branches near the grou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branches all open in the canop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y are shaped like living umbrell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03640" y="2563920"/>
            <a:ext cx="630576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92000" y="647640"/>
            <a:ext cx="93600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A few trees have buttress roots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36360" y="3240000"/>
            <a:ext cx="48956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trunks splay out near the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called buttress 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trees do not hav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335640" y="1801800"/>
            <a:ext cx="349884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48960" y="647640"/>
            <a:ext cx="9131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Plants can grow without soil 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2000" y="6335640"/>
            <a:ext cx="935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plants grow on tree stems, getting everything they need from the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79640" y="2225520"/>
            <a:ext cx="4203720" cy="3173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616720" y="2376360"/>
            <a:ext cx="4203720" cy="28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35280" y="5486400"/>
            <a:ext cx="331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ch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28000" y="5268960"/>
            <a:ext cx="2952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omeli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2T18:50:37Z</dcterms:created>
  <dc:creator>Brian Knapp</dc:creator>
  <dc:description/>
  <dc:language>en-US</dc:language>
  <cp:lastModifiedBy>Brian Knapp</cp:lastModifiedBy>
  <dcterms:modified xsi:type="dcterms:W3CDTF">2017-04-10T21:36:58Z</dcterms:modified>
  <cp:revision>139</cp:revision>
  <dc:subject/>
  <dc:title/>
</cp:coreProperties>
</file>